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1B1D-2DC3-4A13-9EAE-5B8088A53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FB7F-F303-4CF5-88D0-88240893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A537-4037-4FF2-976B-C96F2E444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63D8-6B90-4ED2-87A0-134CE73F4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56E7-CDE4-4042-B57D-C4B399DF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7B46-BEE5-4039-90A8-5AA3EF22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07AB-CAAD-48B9-B0C6-70D71FE7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C975-C196-45B7-A740-CC697BCA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F5C1-E094-4058-8747-0577073B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DA56-1E63-4864-A0EF-2306F146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37EB-5D40-44AE-B50B-47AD49B1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F1A0-9802-441A-96D0-D11DBC2E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59C1-F69C-4D74-A2F3-8120C59D5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4924715GRMuZrvGAj_ph" descr=""/>
          <p:cNvPicPr/>
          <p:nvPr/>
        </p:nvPicPr>
        <p:blipFill>
          <a:blip r:embed="rId1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81480" y="3049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0"/>
            <a:ext cx="3886200" cy="10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Arabic Transparent"/>
                <a:cs typeface="Times New Roman (Arabic)"/>
              </a:rPr>
              <a:t>كنت أبي وأنا ما زلتُ في فكركَ - أنتَ أبي حين أوجدتني</a:t>
            </a:r>
            <a:r>
              <a:rPr b="1" lang="en-US" sz="3800" spc="-1" strike="noStrike">
                <a:solidFill>
                  <a:srgbClr val="ffffff"/>
                </a:solidFill>
                <a:latin typeface="Arabic Transparent"/>
                <a:ea typeface="Times New Roman (Arabic)"/>
              </a:rPr>
              <a:t> </a:t>
            </a:r>
            <a:r>
              <a:rPr b="1" lang="ar-SA" sz="3800" spc="-1" strike="noStrike">
                <a:solidFill>
                  <a:srgbClr val="ffffff"/>
                </a:solidFill>
                <a:latin typeface="Arabic Transparent"/>
                <a:cs typeface="Times New Roman (Arabic)"/>
              </a:rPr>
              <a:t>حيـن ولدتني لحياتـكَ  وســتبقى أبي إلى الأبــدِ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Arabic Transparent"/>
                <a:ea typeface="Times New Roman (Arabic)"/>
              </a:rPr>
              <a:t> أريدُك وحدَك علمني         كيف أحيا وأعيشُ معَ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Arabic Transparent"/>
                <a:cs typeface="Times New Roman (Arabic)"/>
              </a:rPr>
              <a:t>زدني معرفةً بك إني         أحبُك وأنا دومــاً ل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Arabic Transparent"/>
                <a:cs typeface="Times New Roman (Arabic)"/>
              </a:rPr>
              <a:t>أُحبُّكَ وأنا دوما ل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513590NCRDtitzaP_ph" descr=""/>
          <p:cNvPicPr/>
          <p:nvPr/>
        </p:nvPicPr>
        <p:blipFill>
          <a:blip r:embed="rId1"/>
          <a:stretch/>
        </p:blipFill>
        <p:spPr>
          <a:xfrm>
            <a:off x="0" y="0"/>
            <a:ext cx="49640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05120" y="0"/>
            <a:ext cx="7238880" cy="70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تعلَمُ َُضعفي وجراحي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تعرف قلبي وأفكار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رغبُ أن أحياك بكلِّ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كياني بروحي وإحساس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سامح عدمَ إخلاصي</a:t>
            </a:r>
            <a:r>
              <a:rPr b="0" lang="ar-S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كنت أبي وأنا ما زلتُ في فكركَ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نتَ أبي حين أوجدت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حيـن ولدتني لحياتـكَ  وســتبقى أبي إلى الأبــدِ</a:t>
            </a:r>
            <a:r>
              <a:rPr b="0" lang="ar-S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29370043fipmPeKXZd_ph" descr=""/>
          <p:cNvPicPr/>
          <p:nvPr/>
        </p:nvPicPr>
        <p:blipFill>
          <a:blip r:embed="rId2"/>
          <a:stretch/>
        </p:blipFill>
        <p:spPr>
          <a:xfrm>
            <a:off x="4038480" y="0"/>
            <a:ext cx="8001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4343400" cy="10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دمُكَ ينضحُني فأطهُر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تشفيني نفساً وجسد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نا في قلب العالمِ مُتعَب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هب أن أُصبحَ كُلّي ل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المجدُ والحمدُ لكَ</a:t>
            </a:r>
            <a:r>
              <a:rPr b="0" lang="ar-S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كنت أبي وأنا ما زلتُ في فكركَ - أنتَ أبي حين أوجدتني 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حيـن ولدتني لحياتـكَ  وســتبقى أبي إلى الأبــدِ</a:t>
            </a:r>
            <a:r>
              <a:rPr b="0" lang="ar-S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870792SCABvVcdSc_ph" descr=""/>
          <p:cNvPicPr/>
          <p:nvPr/>
        </p:nvPicPr>
        <p:blipFill>
          <a:blip r:embed="rId1"/>
          <a:stretch/>
        </p:blipFill>
        <p:spPr>
          <a:xfrm>
            <a:off x="-104760" y="0"/>
            <a:ext cx="4753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724280" y="0"/>
            <a:ext cx="4419720" cy="11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حبيبيَ خُذ قلبيَ منّي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خُذ روحي وجسدي وتعال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روحَ الحبِّ هلمّ الآن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نوّرني حرّرنــي تعا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ربّي يسوعَ تعال</a:t>
            </a:r>
            <a:r>
              <a:rPr b="0" lang="ar-S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كنت أبي وأنا ما زلتُ في فكركَ -أنتَ أبي حين أوجدتني-حيـن ولدتني لحياتـكَ  وســتبقى أبي إلى الأبــد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5:34:51Z</dcterms:created>
  <dc:creator>USER</dc:creator>
  <dc:description/>
  <dc:language>en-US</dc:language>
  <cp:lastModifiedBy>USER</cp:lastModifiedBy>
  <dcterms:modified xsi:type="dcterms:W3CDTF">2002-11-25T15:39:45Z</dcterms:modified>
  <cp:revision>5</cp:revision>
  <dc:subject/>
  <dc:title>PowerPoint Presentation</dc:title>
</cp:coreProperties>
</file>